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C66-F974-43BF-B6A9-5B2BFCEE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6F64-9BA4-4919-8F67-861BC40D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171-3A69-4C02-A33F-5C4737E7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BD3-4301-410A-9A8A-A8CCD0E2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3C2-537E-4C76-8A2B-6002277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670-1181-4689-80D4-7EA6445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BB2-6674-4285-9A49-89F06758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C7A-A89B-4EB2-BA17-3DD89FD5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A64-1C37-4BE2-8D04-74D3EA0E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7C7-D2AD-4BD2-A29A-3671228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E92-AA6E-49E6-9A6B-58C45A57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448-27BE-46B6-B3B8-899FB74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EAD-6AA7-49B1-A3BB-C3DCC328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hyperlink" Target="http://www.paulwhitephotos.com.au/album/MurrayRiver/slides/MRV%20(5).html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hyperlink" Target="http://en.wikipedia.org/wiki/File:CyanobacteriaInPool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urlz MT"/>
              </a:rPr>
              <a:t>Murray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c7cc"/>
                </a:solidFill>
                <a:latin typeface="Comic Sans MS"/>
              </a:rPr>
              <a:t>B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attleya Ma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2c7cc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Papyrus"/>
              </a:rPr>
              <a:t>Ivy 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onotype Corsiva"/>
              </a:rPr>
              <a:t>The Murray River was discovered by Hume and Hovell ,they named it ‘Murray’ after Secretary of State for the Colon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0600" y="1838160"/>
            <a:ext cx="4762800" cy="3181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Image: Lake Mulwala"/>
          <p:cNvPicPr/>
          <p:nvPr/>
        </p:nvPicPr>
        <p:blipFill>
          <a:blip r:embed="rId3"/>
          <a:stretch/>
        </p:blipFill>
        <p:spPr>
          <a:xfrm>
            <a:off x="395280" y="333360"/>
            <a:ext cx="3168720" cy="2122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2637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elix Titling"/>
              </a:rPr>
              <a:t>What the Murray looks like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trips(downLeft)" transition="out">
                                      <p:cBhvr additive="repl">
                                        <p:cTn id="3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Papyrus"/>
              </a:rPr>
              <a:t>Native 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 Murray River is the home of many native fish and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rout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Golden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acquarie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Silver pe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Ill-tailed cat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Australian sm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Western carp gud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river  cray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Murray short-neck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Broad clawed yab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Large clawed macrobrac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Long –necked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ommon yab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Parataya shr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Water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Platy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Papyrus"/>
              </a:rPr>
              <a:t>Th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extinction of native wild life e.g. The Murray c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Cyanobacteria (blue green alg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dr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The intruder carp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Over fishing marine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Monotype Corsiva"/>
              </a:rPr>
              <a:t>Sal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219640" y="2060640"/>
            <a:ext cx="3924360" cy="246852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8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9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06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Papyrus"/>
              </a:rPr>
              <a:t>Marine Animals Extin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A carp fish has been ruining the right habitat for the native fish, the Carp was introduced to Australia by  the Ger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The carp to be re moved from Australia so native fish to have their dream habi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Monotype Corsiva"/>
              </a:rPr>
              <a:t>To use carp for  other things (fertilizer), food, etc. so they will not disturb the proper balance of the food chain and will not stir up the water in the Mu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125360"/>
            <a:ext cx="38196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32000" y="2349360"/>
            <a:ext cx="2867040" cy="9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3789360"/>
            <a:ext cx="380052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2c7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Sal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alinity is when any type of liquid has too much sa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ere are types of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Dryland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Irrigation sal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Sea water intr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e country to have enough money to fix the Murray River and reduce the level of sal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We should educate the farmers on the effects that their irrigation systems have on the Mu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ducate people to use water properly and don’t waste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Educate people about the effects pollution has on our major water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Plant deep rooted plants around the Mu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11280" y="1052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43280" y="2781360"/>
            <a:ext cx="28670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2" name=""/>
          <p:cNvSpPr txBox="1"/>
          <p:nvPr/>
        </p:nvSpPr>
        <p:spPr>
          <a:xfrm rot="237600">
            <a:off x="1834920" y="3860280"/>
            <a:ext cx="380052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5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5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8" dur="2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trips(upRight)" transition="out">
                                      <p:cBhvr additive="repl">
                                        <p:cTn id="54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599" dur="500"/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b9a1"/>
            </a:gs>
            <a:gs pos="100000">
              <a:srgbClr val="4a554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Cyanobacteria (Blue Green Alga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Cyanobacteria is a problem in the Murray River that is affecting both animal and plants. It can also affect the air in our na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A better habitat for our animals, plants and marine wild lif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We could try and lower temperatures by using less electricity and recycling to stop global warming then it would be cooler .And water temperatures will drop and then th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Monotype Corsiva"/>
              </a:rPr>
              <a:t>Blue-Green Algae will fade awa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627280" y="1125360"/>
            <a:ext cx="38275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Papyrus"/>
              </a:rPr>
              <a:t>Current Situation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Papyrus"/>
              <a:ea typeface="Papyru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71640" y="2276640"/>
            <a:ext cx="2867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Desired Outcome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37400" y="5592600"/>
            <a:ext cx="1506600" cy="1265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380360" y="51577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050920" y="3213000"/>
            <a:ext cx="380052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0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urlz MT"/>
              </a:rPr>
              <a:t>Proposed Action And Guidlines</a:t>
            </a:r>
            <a:endParaRPr b="1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p:transition spd="med">
    <p:comb dir="vert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2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5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55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3:32Z</dcterms:created>
  <dc:creator>Primary School</dc:creator>
  <dc:description/>
  <dc:language>en-US</dc:language>
  <cp:lastModifiedBy>Primary School</cp:lastModifiedBy>
  <dcterms:modified xsi:type="dcterms:W3CDTF">2009-05-13T02:35:22Z</dcterms:modified>
  <cp:revision>11</cp:revision>
  <dc:subject/>
  <dc:title>Murray River</dc:title>
</cp:coreProperties>
</file>